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AED-8C65-473A-8D16-28033C01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7A6-E59E-463B-89E1-1FCB3F1B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C2A0-0B8C-495D-AEF3-A7A2B25C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492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476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436-0B36-448B-B907-8D9814E0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4000-72DB-400A-B827-8D4B0ED9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919C-7F20-4482-8C97-04D1C49D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6228-7DCA-422A-B6A3-B9D37A43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595A-E4FD-4915-872B-838088B2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83DA-2A64-40F3-91B8-A50AA1C2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7B5A-F437-42FD-8706-D5460BC2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220D-6FAA-4C0F-9491-C24CA942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9A61-59E2-4487-BFA7-D2E2F4BF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388D-1104-4F7E-A9A5-41C7E310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4B5C-5633-4B0E-834C-EC279C71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355E-6016-4113-989F-3C4E63EB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032F-B04A-43DB-B76B-3C934A56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44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492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76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4117-C60C-4B9B-A4A5-008D779E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1A8E4-5B3C-403D-BECC-2AF83915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2124D-C25C-4F80-9F02-B132E0F1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E0A4B-6503-47E1-8CAE-5405FCC2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F7E96-F903-4026-9D9E-B409A1D4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4F47-EA54-4A0E-89FF-FB458875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1B8-5116-4F81-8B23-7B88F71F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0746B-9BA6-4ED5-AF03-E2F3D389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ED966-A55D-40CC-93E0-12F8B61C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33350-81A7-49EF-98FD-FB6C89E4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DCC9-7C60-4586-9BFC-872C173B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F23E-5409-4E32-8D4F-199160FE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D4BB5-36E9-42D0-8192-8D1A892C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6492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4760" y="152352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44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6492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4760" y="3872160"/>
            <a:ext cx="2551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C33C-F624-41B0-B073-996FAFFD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FA5-624F-458F-95D9-581276F2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B95-BE44-4C0B-B9D5-4A88ED85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52280"/>
            <a:ext cx="7924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A58-F456-43FE-99E1-344D616F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7EF-EF66-47C8-90B9-7AFCC1A2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6240" y="387216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EB5-06E7-4BEF-B823-01B8660F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6240" y="1523520"/>
            <a:ext cx="38671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872160"/>
            <a:ext cx="79246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C65-F5EC-4701-910D-B5776716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others 3-2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Constantia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508D-F5DC-4D07-B6B1-254046D2A44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other0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EXPHORSA"/>
          <p:cNvPicPr/>
          <p:nvPr/>
        </p:nvPicPr>
        <p:blipFill>
          <a:blip r:embed="rId3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Constantia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101.08.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總務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B6F3-1CFB-402A-9351-02D338076ECA}" type="slidenum">
              <a:rPr b="0" lang="en-US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4" descr="others 3-2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Constantia"/>
              </a:rPr>
              <a:t>Click to edit the title text format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101.08.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總務處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標楷體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3A05-88E9-469A-A641-3DA9FBD8A306}" type="slidenum">
              <a:rPr b="0" lang="en-US" sz="1400" spc="-1" strike="noStrike">
                <a:solidFill>
                  <a:srgbClr val="482400"/>
                </a:solidFill>
                <a:latin typeface="標楷體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167652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101</a:t>
            </a: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學年度 期初校務會議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總務處  許錦芳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1.08.29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2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營繕工作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教學區黑板將另外安排假日時間養護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行文申請學生宿舍修繕補助中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18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機械更新與養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18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常用設備更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行文申請教師宿舍屋頂防水、壁癌阻隔修繕補助，持續追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會計室搬家囉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響應綠色採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360" indent="-2286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本年度須達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0%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的綠色採購比率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3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響應環境教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參與臺灣綠色夥伴學校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提報資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進修交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水電節能持續行動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不使用一次性物品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學支援服務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發放每位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新進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同仁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個電梯卡，離校時繳回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請妥善保管，避免遺失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已更新頻率，如有需要校正，請逕洽事務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4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學支援服務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發放每位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新進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同仁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張影印卡，離校時繳回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請妥善保管，避免遺失；可直接書寫名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每次加值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0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張，每學期限定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影印機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租賃影印機放置於教處、學務、總務、輔導四處室，皆有提供簡便的掃描功能；每月契約量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萬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請使用合併、環保方式影印，減少支出、節碳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每份樣稿限定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張以內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逾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0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張需求者，請送印刷室為您服務；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個工作天即可取回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5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教學支援服務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報修管道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至總務處填寫修繕單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至學校首頁填寫校園修繕系統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-&gt;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記得覆核喔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電話連繫事務組員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請協助提供完整的修繕通報資訊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地點、位置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外型、數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故障情形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與我們聯繫追蹤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6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門禁安全管制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請同仁多留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分鐘，原地確認安全關閉車庫鐵捲門、教宿與學宿電動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校門進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非行政辦公室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鑰匙交給級導師或代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下班後關鎖門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非上班時間需要進入時，請先聯繫警衛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教室：勸導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次後懲處相關人員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下課後關鎖門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中</a:t>
            </a: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樓以上以鐵捲門加強防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7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勿在辦公室、教室、宿舍自行使用高耗電量的電器，以免跳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辦公室、教室通風與照明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1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儘量開啟窗戶促進對流、採光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2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冷氣的使用原則建議為室溫逾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28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度時開啟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3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三班級冷氣的使用仍將依現行費率收費每度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1" name="Picture 4" descr="C:\Users\Shie\AppData\Local\Microsoft\Windows\Temporary Internet Files\Content.IE5\8A09H1NT\MC900382593[1].jpg"/>
          <p:cNvPicPr/>
          <p:nvPr/>
        </p:nvPicPr>
        <p:blipFill>
          <a:blip r:embed="rId6"/>
          <a:stretch/>
        </p:blipFill>
        <p:spPr>
          <a:xfrm>
            <a:off x="7740720" y="522936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文書工作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行政同仁須掌握公文簽辦、報表時間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會簽同仁亦請配合注意時效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行事曆如有需要請即時更正，並告知相關人員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4" name="Picture 4" descr="C:\Users\Shie\AppData\Local\Microsoft\Windows\Temporary Internet Files\Content.IE5\8A09H1NT\MC900382593[1].jpg"/>
          <p:cNvPicPr/>
          <p:nvPr/>
        </p:nvPicPr>
        <p:blipFill>
          <a:blip r:embed="rId4"/>
          <a:stretch/>
        </p:blipFill>
        <p:spPr>
          <a:xfrm>
            <a:off x="7740720" y="522936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自立廚房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1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440" y="1341000"/>
            <a:ext cx="7924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午、晚餐菜單依往例公告於學校首頁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午餐收費：基本費每學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6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；餐費每餐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，每月至多收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0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晚餐收費：基本費每學期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6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；餐費每餐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元，週一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~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四供餐，</a:t>
            </a:r>
            <a:r>
              <a:rPr b="0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以餐計費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導師協助指導班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弱勢學生早餐券、午餐補助申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補助僅限於午餐餐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幹部訓練時發放申請表樣本；如有需要可自行影印，或再洽營養師領用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生需以正楷詳實填寫各項資料，附上證件後送請導師簽章，於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/14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前交回營養師彙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自立廚房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2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440" y="1341360"/>
            <a:ext cx="792468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導師協助指導班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衛生安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抬餐：務必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人成組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放餐：排放於餐桌、課桌椅上；不可放置地面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打餐：避免交談、逗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餐後分類，送回餐桶、熟廚餘並掌握時效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用餐具清洗前後均要留意洗手台清潔、不堵塞排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自立廚房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3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導師協助指導班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中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餐後餐盤稍做擦拭清理、交叉疊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要讓學生自己留下學校餐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午餐的餐桶仍將於餐後集放至地下車庫，由輪值班級派公差整送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各班需分區集放 餐桶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公差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人到車庫，另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人到廚房前走廊待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差學生表現認真者，將於期末簽請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次嘉獎鼓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業務報告大綱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本次會議注意事項共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993300"/>
                </a:solidFill>
                <a:uFillTx/>
                <a:latin typeface="標楷體"/>
                <a:ea typeface="標楷體"/>
                <a:hlinkClick r:id="rId3" action="ppaction://hlinksldjump"/>
              </a:rPr>
              <a:t>總務處組織成員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執掌與聯絡方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事務工作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文書工作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自立廚房工作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自立廚房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4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導師協助指導班級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需自備餐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餐後稍做擦拭清理、帶回家清洗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要讓學生將餐具放在教室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公用餐具限定於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樓洗手台清洗，同樣要留意洗手台清潔、不堵塞排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有學生須借用餐具，須帶學生證至總務處登記借用，限量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套，借完為止；累計借滿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次者將以警告壹次懲處，後續每次借用均記警告壹次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" name="Picture 4" descr="C:\Users\Shie\AppData\Local\Microsoft\Windows\Temporary Internet Files\Content.IE5\8A09H1NT\MC900382593[1].jpg"/>
          <p:cNvPicPr/>
          <p:nvPr/>
        </p:nvPicPr>
        <p:blipFill>
          <a:blip r:embed="rId4"/>
          <a:stretch/>
        </p:blipFill>
        <p:spPr>
          <a:xfrm>
            <a:off x="7812000" y="5589720"/>
            <a:ext cx="1112760" cy="1110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本次校務會議注意事項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請同仁配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車籍資料更新、確認登錄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具體操作：印製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份基本資料，依會議室直排座位為單位傳閱，如有新增、更正，逕填於頁面上，閱畢交給總務處事務組，預定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9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完成製發停車證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學校車庫汽車格共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5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個、機車與腳踏車格共計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個。目前沒有收費，採先到者先停的方式，如有登錄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部以上汽車車籍，限停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部。晚到同仁請到校外停車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汽車停車時須在擋風玻璃明顯處放置停車證，未放證件勸導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次仍未改善，停放非車格位置，均將嚴格處置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本次校務會議注意事項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請同仁配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參閱、熟知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下半年學校消防防護計畫，預防災害機動應變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配合分組簽到參與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9/21(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演練研習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本次校務會議注意事項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請同仁配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午餐供應委員會依教育局規範，簽請校長核可後成立，成員將另行通知開會研討。委員會下另設工作小組，請配合各項業務執行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本學期營養午餐搭餐調查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意願、葷素別、葷食取餐地點等可以電子郵件回覆營養師，或以電話聯繫確認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導師同仁無論搭餐與否，午餐時間請於教室指導學生用餐、環境衛生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晚餐係為住宿學生設立，除管理人員配合學生搭餐外，不開放個別搭餐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本次校務會議注意事項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請同仁配合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有意願申請住宿 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已住宿同仁請參閱、熟知學校教師宿舍管理辦法、教師宿舍公約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已住宿同仁請於本次校務會議休息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分鐘後，原地參加「全體住戶會議」，選舉出管理委員會成員後，由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位委員繼續參加「管理委員會會議」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0" name="Picture 4" descr="C:\Users\Shie\AppData\Local\Microsoft\Windows\Temporary Internet Files\Content.IE5\8A09H1NT\MC900382593[1].jpg"/>
          <p:cNvPicPr/>
          <p:nvPr/>
        </p:nvPicPr>
        <p:blipFill>
          <a:blip r:embed="rId4"/>
          <a:stretch/>
        </p:blipFill>
        <p:spPr>
          <a:xfrm>
            <a:off x="7740720" y="522936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總務處組織成員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pic>
        <p:nvPicPr>
          <p:cNvPr id="142" name="內容版面配置區 3" descr=""/>
          <p:cNvPicPr/>
          <p:nvPr/>
        </p:nvPicPr>
        <p:blipFill>
          <a:blip r:embed="rId1"/>
          <a:stretch/>
        </p:blipFill>
        <p:spPr>
          <a:xfrm>
            <a:off x="590400" y="1511280"/>
            <a:ext cx="8023320" cy="451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Users\Shie\AppData\Local\Microsoft\Windows\Temporary Internet Files\Content.IE5\8A09H1NT\MC900382593[1].jpg"/>
          <p:cNvPicPr/>
          <p:nvPr/>
        </p:nvPicPr>
        <p:blipFill>
          <a:blip r:embed="rId2"/>
          <a:stretch/>
        </p:blipFill>
        <p:spPr>
          <a:xfrm>
            <a:off x="7740720" y="551664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總務處執掌與聯絡方式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請參閱學校首頁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/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各單位網頁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/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總務處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內有全體成員基本資訊、聯絡分機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各組執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相關資料提供下載使用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Picture 4" descr="C:\Users\Shie\AppData\Local\Microsoft\Windows\Temporary Internet Files\Content.IE5\8A09H1NT\MC900382593[1].jpg"/>
          <p:cNvPicPr/>
          <p:nvPr/>
        </p:nvPicPr>
        <p:blipFill>
          <a:blip r:embed="rId5"/>
          <a:stretch/>
        </p:blipFill>
        <p:spPr>
          <a:xfrm>
            <a:off x="7740720" y="5229360"/>
            <a:ext cx="1111320" cy="11127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事務工作</a:t>
            </a:r>
            <a:r>
              <a:rPr b="1" i="1" lang="en-US" sz="4400" spc="-1" strike="noStrike">
                <a:solidFill>
                  <a:srgbClr val="993300"/>
                </a:solidFill>
                <a:latin typeface="標楷體"/>
                <a:ea typeface="標楷體"/>
              </a:rPr>
              <a:t>1</a:t>
            </a:r>
            <a:endParaRPr b="1" i="1" lang="en-US" sz="4400" spc="-1" strike="noStrike">
              <a:solidFill>
                <a:srgbClr val="993300"/>
              </a:solidFill>
              <a:latin typeface="Constant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440" y="15235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營繕工作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教學區水泥塊剝落修復工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施工目標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A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修復本校國中部</a:t>
            </a: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301-304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教室、校史室天花板水泥塊剝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B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整治校史室屋頂防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整理國中部各教室、辦公室輕鋼架並換置節能燈具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進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專科教室區最後處置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童軍場機具暫放，管制進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標楷體"/>
                <a:ea typeface="標楷體"/>
              </a:rPr>
              <a:t>驗收無誤後，廠商全部撤離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2:01:17Z</dcterms:created>
  <dc:creator>Shie</dc:creator>
  <dc:description/>
  <dc:language>en-US</dc:language>
  <cp:lastModifiedBy>aa8832</cp:lastModifiedBy>
  <dcterms:modified xsi:type="dcterms:W3CDTF">2012-09-03T04:43:34Z</dcterms:modified>
  <cp:revision>37</cp:revision>
  <dc:subject/>
  <dc:title>101學年度 期初校務會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0849990</vt:lpwstr>
  </property>
</Properties>
</file>